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7E18-EB5C-4DF2-8E48-561B1A09F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ACF5-7695-478C-B5C3-EE5D2B4F6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035D-9A76-41FC-8F19-E2520DF8F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5D8E-EA86-4795-8DBD-C3F8406F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6EBA-E684-4F33-BFF4-8A907C99C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312B-F6FE-480E-A6C7-E971D0817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7957-E272-44D5-A5AA-9D07BD64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A41A-10BB-4E3B-AC1A-C390A734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A593-5BC5-43F2-88A2-E2AEEA9D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F776-A130-4EEF-9034-3DF12655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6FDB-05D9-4079-9D23-CEFCA1EA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C4A9-1BE8-4750-B847-5C9CA1C2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51AD-E2A9-42E1-BC23-37B68F04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1FDA-6AC2-4C65-A4D6-C40CEE36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4D04-B9F9-4312-BD57-A111B68F1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riella Bra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76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i nombre es Ariella, yo tengo una hermana que se llama Michelle. Tengo catorce anos. Yo vivo en Nueva York. Soy divertida y feli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645080"/>
            <a:ext cx="415800" cy="63324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u eres mi mejor amiga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uando te puedo ver te extrañ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e puedes acompañar mañana al parque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Que son las preguntas de la tarea yo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05740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7T18:29:05Z</dcterms:modified>
  <cp:revision>106</cp:revision>
  <dc:subject/>
  <dc:title>Profile</dc:title>
</cp:coreProperties>
</file>